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B28-1D37-4A21-9FED-7E46FECD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078-4907-493A-8A5B-2BFEB0A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F05-9535-42AE-AE8D-ADB5BF57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215-70D3-43CA-8F71-B079173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28C1-7199-4D82-86C8-B1AE572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EC9-116D-4FA1-AABC-24C7B9D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974-B612-4A2D-9C1C-30088F41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45D0-00BF-4223-8296-BF3527F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12F-EAFE-45AD-88AA-54C0FCA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F7A-A87C-46C0-BA75-B2A9A70D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EE0-07EB-4463-B559-8DAAAF7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93C-87F4-46D8-BBA8-A775355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5FA4-CBAC-42A5-A1CC-66CC7840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CBAA-FFFC-4A97-A749-09455BE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DD0-0851-478E-A197-E367034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8CCA-7F23-4154-AA2B-BE4EED61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FDE6-837A-4743-9CF7-B9438E30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36D-4F14-4054-BDB8-8274E677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44D-4735-42CA-ABED-DEE99077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7C4-C10F-4A29-B07C-4BCBBB7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29A-27E1-4112-BEA1-F0147B9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27C-CEF1-432D-A08B-8AEA382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AF1-39AE-4CC8-9B66-0C753E1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CC7-9783-42AA-8EF1-3A481DF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403-C79D-4966-9883-B1E4B8DC7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F3F-AD9A-41B2-9587-8C25DE88F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rtfolio of Nicole Cha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943600" cy="393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6067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674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 OPTION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 PHO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038840" cy="2765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43434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70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2381040" cy="358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3024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078440" cy="2679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40784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 CHOICE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4008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267440" cy="2851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2674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GH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940200" cy="2514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809880" cy="2692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3929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57146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62520" cy="2803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920" y="3173400"/>
            <a:ext cx="3733560" cy="2522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105520" y="152280"/>
            <a:ext cx="2503440" cy="358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41148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81320" cy="2647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114800" cy="2639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495680" y="3809880"/>
            <a:ext cx="40388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35:05Z</dcterms:created>
  <dc:creator>bal_nmchaves</dc:creator>
  <dc:description/>
  <dc:language>en-US</dc:language>
  <cp:lastModifiedBy>C</cp:lastModifiedBy>
  <dcterms:modified xsi:type="dcterms:W3CDTF">2009-05-22T22:14:46Z</dcterms:modified>
  <cp:revision>6</cp:revision>
  <dc:subject/>
  <dc:title>Portfolio of Nicole Chaves</dc:title>
</cp:coreProperties>
</file>